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 PAGE WITH POSTING COMPLE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Picture 3" descr="D:\C21 PowerPoint\Multi_Journal\art for blue\Ch05\Ch05-04a.jpg"/>
          <p:cNvPicPr/>
          <p:nvPr/>
        </p:nvPicPr>
        <p:blipFill>
          <a:blip r:embed="rId1"/>
          <a:stretch/>
        </p:blipFill>
        <p:spPr>
          <a:xfrm>
            <a:off x="457200" y="905040"/>
            <a:ext cx="7705800" cy="4124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4, page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MORANDUM FOR A CORRECTING EN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3" descr="D:\C21 PowerPoint\Multi_Journal\art for blue\Ch05\Ch05-04f.jpg"/>
          <p:cNvPicPr/>
          <p:nvPr/>
        </p:nvPicPr>
        <p:blipFill>
          <a:blip r:embed="rId1"/>
          <a:srcRect l="0" t="0" r="-532" b="55436"/>
          <a:stretch/>
        </p:blipFill>
        <p:spPr>
          <a:xfrm>
            <a:off x="457200" y="1143000"/>
            <a:ext cx="7391520" cy="4575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45" name="Text Box 5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4, page 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27160"/>
            <a:ext cx="84596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 ENTRY TO RECORD A CORRECTING EN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4, page 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57200" y="838080"/>
            <a:ext cx="8229600" cy="1313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13. Discovered that a payment of cash for advertising in October was journalized and posted in error as a debit to Miscellaneous Expense instead of Advertising Expense, $120.00. Memorandum No. 4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52280" y="220968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tising Exp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ellaneous Exp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52280" y="567864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 accoun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 accounts decrease on the cred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52280" y="45720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s are de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52280" y="3276720"/>
            <a:ext cx="525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tising Expen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expense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ellaneous Expen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expense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25"/>
          <p:cNvGrpSpPr/>
          <p:nvPr/>
        </p:nvGrpSpPr>
        <p:grpSpPr>
          <a:xfrm>
            <a:off x="5027760" y="1986120"/>
            <a:ext cx="2971800" cy="3880800"/>
            <a:chOff x="5027760" y="1986120"/>
            <a:chExt cx="2971800" cy="3880800"/>
          </a:xfrm>
        </p:grpSpPr>
        <p:grpSp>
          <p:nvGrpSpPr>
            <p:cNvPr id="54" name="Group 10"/>
            <p:cNvGrpSpPr/>
            <p:nvPr/>
          </p:nvGrpSpPr>
          <p:grpSpPr>
            <a:xfrm>
              <a:off x="5027760" y="4043520"/>
              <a:ext cx="2971800" cy="1823400"/>
              <a:chOff x="5027760" y="4043520"/>
              <a:chExt cx="2971800" cy="1823400"/>
            </a:xfrm>
          </p:grpSpPr>
          <p:sp>
            <p:nvSpPr>
              <p:cNvPr id="55" name="Text Box 11"/>
              <p:cNvSpPr/>
              <p:nvPr/>
            </p:nvSpPr>
            <p:spPr>
              <a:xfrm>
                <a:off x="5146200" y="4043520"/>
                <a:ext cx="27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iscellaneous Expen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>
                <a:off x="5027760" y="442440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13"/>
              <p:cNvSpPr/>
              <p:nvPr/>
            </p:nvSpPr>
            <p:spPr>
              <a:xfrm>
                <a:off x="6475680" y="4424400"/>
                <a:ext cx="0" cy="1442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Group 24"/>
            <p:cNvGrpSpPr/>
            <p:nvPr/>
          </p:nvGrpSpPr>
          <p:grpSpPr>
            <a:xfrm>
              <a:off x="5027760" y="1986120"/>
              <a:ext cx="2971800" cy="1828800"/>
              <a:chOff x="5027760" y="1986120"/>
              <a:chExt cx="2971800" cy="1828800"/>
            </a:xfrm>
          </p:grpSpPr>
          <p:sp>
            <p:nvSpPr>
              <p:cNvPr id="59" name="Text Box 15"/>
              <p:cNvSpPr/>
              <p:nvPr/>
            </p:nvSpPr>
            <p:spPr>
              <a:xfrm>
                <a:off x="5337720" y="1986120"/>
                <a:ext cx="225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dvertising Expen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>
                <a:off x="5027760" y="236700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6475320" y="2371680"/>
                <a:ext cx="0" cy="14432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Text Box 18"/>
          <p:cNvSpPr/>
          <p:nvPr/>
        </p:nvSpPr>
        <p:spPr>
          <a:xfrm>
            <a:off x="4951800" y="251928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4934520" y="454032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5425560" y="330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207760" y="3052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2"/>
          <p:cNvSpPr/>
          <p:nvPr/>
        </p:nvSpPr>
        <p:spPr>
          <a:xfrm flipV="1">
            <a:off x="7068240" y="533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6884280" y="5087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8"/>
          <p:cNvSpPr/>
          <p:nvPr/>
        </p:nvSpPr>
        <p:spPr>
          <a:xfrm>
            <a:off x="209520" y="40910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Miscellaneous Exp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27160"/>
            <a:ext cx="84596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 ENTRY TO RECORD A CORRECTING EN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D:\C21 PowerPoint\Multi_Journal\art for blue\Ch05\Ch05-04g.jpg"/>
          <p:cNvPicPr/>
          <p:nvPr/>
        </p:nvPicPr>
        <p:blipFill>
          <a:blip r:embed="rId1"/>
          <a:srcRect l="45343" t="0" r="0" b="66870"/>
          <a:stretch/>
        </p:blipFill>
        <p:spPr>
          <a:xfrm>
            <a:off x="452520" y="1143000"/>
            <a:ext cx="8528040" cy="1612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D:\C21 PowerPoint\Multi_Journal\art for blue\Ch05\Ch05-04f.jpg"/>
          <p:cNvPicPr/>
          <p:nvPr/>
        </p:nvPicPr>
        <p:blipFill>
          <a:blip r:embed="rId2"/>
          <a:srcRect l="0" t="0" r="0" b="55436"/>
          <a:stretch/>
        </p:blipFill>
        <p:spPr>
          <a:xfrm>
            <a:off x="5486400" y="2971800"/>
            <a:ext cx="3182760" cy="1981080"/>
          </a:xfrm>
          <a:prstGeom prst="rect">
            <a:avLst/>
          </a:prstGeom>
          <a:ln w="9360">
            <a:solidFill>
              <a:srgbClr val="b2b2b2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72" name="Text Box 5"/>
          <p:cNvSpPr/>
          <p:nvPr/>
        </p:nvSpPr>
        <p:spPr>
          <a:xfrm>
            <a:off x="20952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09520" y="44546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09520" y="371808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Advertising Exp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5"/>
          <p:cNvGrpSpPr/>
          <p:nvPr/>
        </p:nvGrpSpPr>
        <p:grpSpPr>
          <a:xfrm>
            <a:off x="2971800" y="2590560"/>
            <a:ext cx="2514600" cy="1219320"/>
            <a:chOff x="2971800" y="2590560"/>
            <a:chExt cx="2514600" cy="1219320"/>
          </a:xfrm>
        </p:grpSpPr>
        <p:sp>
          <p:nvSpPr>
            <p:cNvPr id="77" name="Freeform 17"/>
            <p:cNvSpPr/>
            <p:nvPr/>
          </p:nvSpPr>
          <p:spPr>
            <a:xfrm flipV="1">
              <a:off x="2971800" y="2590200"/>
              <a:ext cx="2514600" cy="11430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4003560" y="32767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4"/>
          <p:cNvGrpSpPr/>
          <p:nvPr/>
        </p:nvGrpSpPr>
        <p:grpSpPr>
          <a:xfrm>
            <a:off x="3809880" y="990720"/>
            <a:ext cx="4486320" cy="2133360"/>
            <a:chOff x="3809880" y="990720"/>
            <a:chExt cx="4486320" cy="2133360"/>
          </a:xfrm>
        </p:grpSpPr>
        <p:sp>
          <p:nvSpPr>
            <p:cNvPr id="80" name="Freeform 19"/>
            <p:cNvSpPr/>
            <p:nvPr/>
          </p:nvSpPr>
          <p:spPr>
            <a:xfrm>
              <a:off x="3809880" y="1292400"/>
              <a:ext cx="4486320" cy="18316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11"/>
            <p:cNvSpPr/>
            <p:nvPr/>
          </p:nvSpPr>
          <p:spPr>
            <a:xfrm>
              <a:off x="6934320" y="990720"/>
              <a:ext cx="53316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3"/>
          <p:cNvGrpSpPr/>
          <p:nvPr/>
        </p:nvGrpSpPr>
        <p:grpSpPr>
          <a:xfrm>
            <a:off x="2743200" y="907920"/>
            <a:ext cx="1905120" cy="1301760"/>
            <a:chOff x="2743200" y="907920"/>
            <a:chExt cx="1905120" cy="1301760"/>
          </a:xfrm>
        </p:grpSpPr>
        <p:sp>
          <p:nvSpPr>
            <p:cNvPr id="83" name="Freeform 21"/>
            <p:cNvSpPr/>
            <p:nvPr/>
          </p:nvSpPr>
          <p:spPr>
            <a:xfrm>
              <a:off x="2743200" y="1219320"/>
              <a:ext cx="1905120" cy="9903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3481560" y="90792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26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4, page 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David Combs</cp:lastModifiedBy>
  <cp:lastPrinted>1999-03-30T08:20:16Z</cp:lastPrinted>
  <dcterms:modified xsi:type="dcterms:W3CDTF">2011-10-19T22:29:11Z</dcterms:modified>
  <cp:revision>20</cp:revision>
  <dc:subject/>
  <dc:title>THE ACCOUNTING EQUATION</dc:title>
</cp:coreProperties>
</file>